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1682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07960" y="1782360"/>
            <a:ext cx="914292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7960" y="4089960"/>
            <a:ext cx="914292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07960" y="1782360"/>
            <a:ext cx="446148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3000" y="1782360"/>
            <a:ext cx="446148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7960" y="4089960"/>
            <a:ext cx="446148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5193000" y="4089960"/>
            <a:ext cx="446148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7960" y="1782360"/>
            <a:ext cx="294372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99280" y="1782360"/>
            <a:ext cx="294372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690600" y="1782360"/>
            <a:ext cx="294372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7960" y="4089960"/>
            <a:ext cx="294372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599280" y="4089960"/>
            <a:ext cx="294372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690600" y="4089960"/>
            <a:ext cx="294372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507960" y="1782360"/>
            <a:ext cx="9142920" cy="44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507960" y="1782360"/>
            <a:ext cx="9142920" cy="44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507960" y="1782360"/>
            <a:ext cx="4461480" cy="44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5193000" y="1782360"/>
            <a:ext cx="4461480" cy="44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507960" y="303840"/>
            <a:ext cx="914292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7960" y="1782360"/>
            <a:ext cx="446148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93000" y="1782360"/>
            <a:ext cx="4461480" cy="44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507960" y="4089960"/>
            <a:ext cx="446148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7960" y="1782360"/>
            <a:ext cx="4461480" cy="44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93000" y="1782360"/>
            <a:ext cx="446148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193000" y="4089960"/>
            <a:ext cx="446148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07960" y="1782360"/>
            <a:ext cx="446148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93000" y="1782360"/>
            <a:ext cx="446148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07960" y="4089960"/>
            <a:ext cx="914292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" name="Picture 5" descr="C:\Users\rakesh.jawale\Desktop\HSGEO15_TC_C07_L1_ls04\Image.png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-23760" y="-14400"/>
            <a:ext cx="10182240" cy="7639200"/>
          </a:xfrm>
          <a:prstGeom prst="rect">
            <a:avLst/>
          </a:prstGeom>
          <a:ln w="0">
            <a:noFill/>
          </a:ln>
        </p:spPr>
      </p:pic>
      <p:sp>
        <p:nvSpPr>
          <p:cNvPr id="37" name="Text Box 3">
            <a:hlinkClick r:id="" action="ppaction://hlinkshowjump?jump=nextslide"/>
          </p:cNvPr>
          <p:cNvSpPr/>
          <p:nvPr/>
        </p:nvSpPr>
        <p:spPr>
          <a:xfrm>
            <a:off x="122400" y="1440"/>
            <a:ext cx="735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Kennedy’s Foreign Policy</a:t>
            </a:r>
            <a:endParaRPr b="0" lang="en-US" sz="24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38" name="Text Box 14">
            <a:hlinkClick r:id="" action="ppaction://hlinkshowjump?jump=nextslide"/>
          </p:cNvPr>
          <p:cNvSpPr/>
          <p:nvPr/>
        </p:nvSpPr>
        <p:spPr>
          <a:xfrm>
            <a:off x="1166760" y="1938240"/>
            <a:ext cx="8267760" cy="38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•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Focused on the Cold War</a:t>
            </a:r>
            <a:endParaRPr b="0" lang="en-US" sz="2400" spc="-1" strike="noStrike">
              <a:solidFill>
                <a:srgbClr val="000000"/>
              </a:solidFill>
              <a:latin typeface="Myriad Pro"/>
            </a:endParaRPr>
          </a:p>
          <a:p>
            <a:pPr marL="457200" indent="-457200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•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Continued a policy of containment</a:t>
            </a:r>
            <a:endParaRPr b="0" lang="en-US" sz="2400" spc="-1" strike="noStrike">
              <a:solidFill>
                <a:srgbClr val="000000"/>
              </a:solidFill>
              <a:latin typeface="Myriad Pro"/>
            </a:endParaRPr>
          </a:p>
          <a:p>
            <a:pPr marL="457200" indent="-457200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•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Advocated a buildup of troops and of conventional weapons </a:t>
            </a:r>
            <a:endParaRPr b="0" lang="en-US" sz="2400" spc="-1" strike="noStrike">
              <a:solidFill>
                <a:srgbClr val="000000"/>
              </a:solidFill>
              <a:latin typeface="Myriad Pro"/>
            </a:endParaRPr>
          </a:p>
          <a:p>
            <a:pPr marL="457200" indent="-457200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•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Provided aid to Latin American countries through the Alliance for Progress</a:t>
            </a:r>
            <a:endParaRPr b="0" lang="en-US" sz="2400" spc="-1" strike="noStrike">
              <a:solidFill>
                <a:srgbClr val="000000"/>
              </a:solidFill>
              <a:latin typeface="Myriad Pro"/>
            </a:endParaRPr>
          </a:p>
          <a:p>
            <a:pPr marL="457200" indent="-457200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•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Established the Peace Corps</a:t>
            </a:r>
            <a:endParaRPr b="0" lang="en-US" sz="2400" spc="-1" strike="noStrike">
              <a:solidFill>
                <a:srgbClr val="000000"/>
              </a:solidFill>
              <a:latin typeface="Myriad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7T23:17:57Z</dcterms:created>
  <dc:creator>Jim Larkin</dc:creator>
  <dc:description/>
  <dc:language>en-US</dc:language>
  <cp:lastModifiedBy>Sacerdote, Kevin R.</cp:lastModifiedBy>
  <dcterms:modified xsi:type="dcterms:W3CDTF">2016-02-28T16:21:54Z</dcterms:modified>
  <cp:revision>12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sMyDocuments">
    <vt:lpwstr>1</vt:lpwstr>
  </property>
  <property fmtid="{D5CDD505-2E9C-101B-9397-08002B2CF9AE}" pid="3" name="KSOProductBuildVer">
    <vt:lpwstr>1033-9.1.0.4674</vt:lpwstr>
  </property>
</Properties>
</file>